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5B8-9BEB-4FD5-9A3A-68689288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C8D-8EA9-4D10-9777-D432DDF3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450-492B-4109-98FC-E9DD39DA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F94-79A0-4791-9B53-455FDBCA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7BB8-521C-45E9-BAC9-8E17EC6F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BBCE-3F9A-4602-AF3A-E6597F7F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943A-F94B-4CC8-8B21-F27CBB31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31B3-40D0-4D45-8772-1D208E7B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10D-6F7C-4F65-A9BA-54DA0BE8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66ED-2348-4860-B6A4-78726F2C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2D9C-7798-48C5-8368-B9DAA65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2D0-815C-4C09-B903-B0D56C04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73CD-1899-4CB3-8AA4-90F80F2A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3888-7842-48A3-A3BD-5AF86534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FB25-1D6C-4600-85C0-F77BC015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A915-0075-4CA3-B64C-2BC13311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4FA9-393E-4357-8EB3-9A1D2B6D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437-DFC8-4077-A12B-FDDFD8FC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A7F-5A88-4F40-8969-6684CAC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F47-94DD-48EA-9A94-14AE28B7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D58-7746-487C-946A-6F5F1313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821-B540-448D-9788-241D1B44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15B-B9E8-4C04-8916-0CDC38A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377-1CEF-47D6-90EB-BB31D04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1762-5EA9-4829-91DB-DBAA7FF93D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13E1-8BBD-4FC1-A8FF-41EA2C4FF1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十一章  国际金融创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ancial In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金融创新成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西方金融创新成因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W.I.Silber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约束诱导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E.J.Kane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规避管制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制度学派的创新理论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Hicks ,Niehans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交易成本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其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林和海伍德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里和肖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金融创新的背景与原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以来的创新浪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背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经济变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金融形势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的原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过时的金融管制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债的大量发行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资本国际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新技术的应用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经济思想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金融创新实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管理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国政府金融管制与监督的差异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管制与监督的演变与金融改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西方国家管制与监督变化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避管制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风险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强流动性、降低成本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金融市场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特大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金融创新的特征、影响及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创新的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率自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业务全能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工具多样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国际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运作信息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大型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创新对世界金融业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量巨增，市场结构不平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体系呈现新格局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战略调整，重视对外业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业务电子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金融创新中存在的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府金融机构的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体系稳定性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政策的重新选择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7:36Z</dcterms:created>
  <dc:creator>MS User</dc:creator>
  <dc:description/>
  <dc:language>en-US</dc:language>
  <cp:lastModifiedBy>Dell</cp:lastModifiedBy>
  <dcterms:modified xsi:type="dcterms:W3CDTF">2021-08-23T22:48:37Z</dcterms:modified>
  <cp:revision>10</cp:revision>
  <dc:subject/>
  <dc:title>第六章  国际金融创新</dc:title>
</cp:coreProperties>
</file>